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6D1-19E4-4C80-B965-74EFD278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B1F-0D33-461F-A31D-73C122A2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C8B-D62A-42FF-A674-6B60BDE0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8C9-4D39-4199-9FF5-80EA7308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2F1-2ABE-4ADE-9BBD-8AC6F17B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730-FC70-4350-9563-AAC8BE0C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158-1A8D-43F3-8B8D-1B47E91A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FFF-D30E-4891-8F67-403E0C7B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7DF-FCDE-4C28-A826-85E36D7C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552-2B94-4595-ACDA-E4A4029F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4E4-37BA-4AA4-94FE-022DDE69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4A4-E5E5-4811-A642-0AD4B6CE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01A1-53B3-4F04-A8D4-6AAF10D06B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1.xml"/><Relationship Id="rId3" Type="http://schemas.openxmlformats.org/officeDocument/2006/relationships/slide" Target="slide24.xml"/><Relationship Id="rId4" Type="http://schemas.openxmlformats.org/officeDocument/2006/relationships/slide" Target="slide37.xml"/><Relationship Id="rId5" Type="http://schemas.openxmlformats.org/officeDocument/2006/relationships/slide" Target="slide46.xml"/><Relationship Id="rId6" Type="http://schemas.openxmlformats.org/officeDocument/2006/relationships/hyperlink" Target="file:///&#30446;&#24405;.ppt" TargetMode="External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菜单、快捷键和控制条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19520" y="1981080"/>
            <a:ext cx="3352680" cy="34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快捷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动态生成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工具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状态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7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CmdUI-&gt;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Enab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tru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l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CmdUI-&gt;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SetChec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COMMAN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消息响应菜单项的选择事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UPDATE_COMMAND_U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消息控制菜使用单项状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快捷菜单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快捷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4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快捷菜单资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跟踪菜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菜单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对话框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编辑快捷菜单资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菜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IDR_POPUP_MENU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opup1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op-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ption                            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矩形坐标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EDIT_R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椭圆坐标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EDIT_CIR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显示快捷菜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lass Name     ObjectsIDs    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ainFrame       CMainFrame      WM_CONTEXTMEN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840" y="1574640"/>
            <a:ext cx="9128160" cy="5340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void CMainFrame::OnContextMenu(CWnd* pWnd, CPoint poin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// TODO: Add your message handler code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Menu me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f(menu.LoadMenu(IDR_POPUP_MENU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Menu *pPopup=menu.GetSubMenu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opup-&gt;TrackPopupMenu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PM_LEFTALIGN|TPM_RIGHTBUTT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 point.x, point.y,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显示快捷菜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添加菜单消息处理函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1)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编辑对话框资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181480" y="1066680"/>
          <a:ext cx="358164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066680"/>
                    <a:ext cx="35816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04920" y="3276720"/>
            <a:ext cx="6629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静态文本框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_STATI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左上角坐标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X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Y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静态文本框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_STATI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右下角坐标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X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Y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编辑框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_EDIT_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编辑框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_EDIT_Y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编辑框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_EDIT_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编辑框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_EDIT_Y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按扭控件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O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确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按扭控件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DCANCE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取消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添加菜单消息处理函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6781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对话框添加控件关联变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EDIT_X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_n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EDIT_Y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_n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EDIT_X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_n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EDIT_Y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_nX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主框架中加入变量并初始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RectLe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RectT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RectR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RectBott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CircleLe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CircleT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CircleR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m_nCircleBott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2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462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4440" y="1219320"/>
            <a:ext cx="882324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ainFrame::CMainFram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member initializa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RectLeft = 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RectTop = 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RectRight = 2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RectBottom = 1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CircleLeft = 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CircleTop = 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CircleRight = 2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CircleBottom = 15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添加菜单消息处理函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462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8120" y="1135080"/>
            <a:ext cx="8823600" cy="5153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DrawRec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MainFrame *pMainFrame = (CMainFrame *) AfxGetApp()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Rectangle(pMainFrame-&gt;m_nRectLeft,pMainFrame-&gt;m_nRectTop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ainFrame-&gt;m_nRectRight,pMainFrame-&gt;m_nRectBottom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DrawCircl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MainFrame *pMainFrame = (CMainFrame *) AfxGetApp()-&gt;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Ellipse(pMainFrame-&gt;m_nCircleLeft,pMainFrame-&gt;m_nCircleTop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ainFrame-&gt;m_nCircleRight,pMainFrame-&gt;m_nCircleBottom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添加菜单消息处理函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8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4)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画图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菜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响应菜单消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控制菜单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快捷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4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462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添加菜单消息处理函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9907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加入菜单消息处理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720" y="1758960"/>
            <a:ext cx="729936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EditRec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Edit dlg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EditCircl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Edit dlg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462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实现对话框功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16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修改构造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720" y="1219320"/>
            <a:ext cx="7375680" cy="4505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lgEdit::CDlgEdit(int type, CWnd* pParent /*=NULL*/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 CDialog(CDlgEdit::IDD, pPar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{{AFX_DATA_INIT(CDlgEd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X1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X2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Y1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Y2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}}AFX_DATA_I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m_nType = typ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0339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添加确定命令按扭响应函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O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462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6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实现对话框功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720" y="76320"/>
            <a:ext cx="7452000" cy="6562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CDlgEdit::OnOK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UpdateData(TRU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MainFrame *pMainFrame = (CMainFrame *) AfxGetApp()-&gt;GetMainWnd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(m_nType ==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RectLeft   = m_nX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RectTop    = m_nY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RectRight  = m_nX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RectBottom = m_nY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lse if(m_nType ==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CircleLeft   = m_nX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CircleTop    = m_nY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CircleRight  = m_nX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MainFrame-&gt;m_nCircleBottom = m_nY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O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OnContextM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enu</a:t>
            </a: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en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LoadMenu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（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TrackPopup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AfxGetApp(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WinApp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的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GetMainWnd(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动态菜单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菜单动态增加与删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户自定义消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动态菜单消息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4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菜单资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菜单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加入动态菜单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编辑菜单资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菜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IDR_POPUP_MENU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两个菜单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ion                           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Sep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增加椭圆控制菜单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ADD_MEN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椭圆控制菜单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DELETE_MEN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OnAdd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OnDelete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9968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ainFrame::OnAddMenu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menu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nu[0]=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允许画椭圆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nu[1]=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禁止画椭圆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Wnd *pMainFrame=Afx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enu *pMenuDyna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enu *pMenu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enu *pTopMenu=pMainFrame-&gt;GetMenu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iP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Pos=pTopMenu-&gt;GetMenuItemCount()-1; iPos&gt;=0; iPos-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=pTopMenu-&gt;GetSubMenu(iP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Menu &amp;&amp; pMenu-&gt;GetMenuItemID(0)==ID_DRAW_R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Dyna=pMen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Pos=pMenuDyna-&gt;GetMenuItemCount()-1; iPos&gt;=5; iPos-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Dyna-&gt;DeleteMenu(iPos,MF_BYPOSI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nt i=0;i&lt;2;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Dyna-&gt;AppendMenu(MF_STRING, WM_USER+10+i, menu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77461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ainFrame::OnDeleteMenu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Wnd *pMainFrame=Afx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enu *pMenuDyna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enu *pMenu=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Menu *pTopMenu=pMainFrame-&gt;GetMenu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iP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Pos=pTopMenu-&gt;GetMenuItemCount()-1; iPos&gt;=0; iPos-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=pTopMenu-&gt;GetSubMenu(iP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Menu &amp;&amp; pMenu-&gt;GetMenuItemID(0)==ID_DRAW_R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Dyna=pMen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Pos=pMenuDyna-&gt;GetMenuItemCount()-1; iPos&gt;=5; iPos-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MenuDyna-&gt;DeleteMenu(iPos,MF_BYPOSITI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ppWizar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成程序框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Menu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资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加入菜单消息处理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菜单命令的更新控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动态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增加一个变量并初始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t m_Select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_Select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时，第一项为选中状态，允许画椭圆。否则第二项为选中状态，禁止画椭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419640"/>
            <a:ext cx="8153280" cy="30060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ainFrame::CMainFra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 TODO: add member initialization cod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SelectMenu 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动态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载主框架类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nCmdMs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）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nu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bjects ID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nCmdMs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动态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840" y="15840"/>
            <a:ext cx="9128160" cy="77461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MainFrame::OnCmdMsg(UINT nID, int nCode, void* pExtr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_CMDHANDLERINFO* pHandlerInf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HandlerInfo==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int i=0; i&lt;2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nID==(UINT) (WM_USER+10+i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nCode==CN_COMM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oSelectMenu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nCode==CN_UPDATE_COMMAND_U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oUpdateSelectMenu(i,(CCmdUI *) pExtr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CFrameWnd::OnCmdMsg(nID, nCode, pExtra, pHandlerInf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动态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中增加两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Select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UpdateSelectMen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276720"/>
            <a:ext cx="8153280" cy="2195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CMainFrame::DoSelectMenu(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nSelectMenu 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动态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1523880"/>
            <a:ext cx="8915400" cy="3260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CMainFrame::DoUpdateSelectMenu(int i, CCmdUI *pCmdU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i==m_nSelectMen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mdUI-&gt;SetCheck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mdUI-&gt;SetCheck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mdUI-&gt;Enable(tru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添加动态菜单响应函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椭圆菜单项加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UPDATE_COMMAND_U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消息处理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286000"/>
            <a:ext cx="8610480" cy="3816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CMainFrame::OnUpdateDrawCircle(CCmdUI* pCmdU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 TODO: Add your command update UI handler cod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m_nSelectMenu =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mdUI-&gt;Enable(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mdUI-&gt;Enable(fal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Wnd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：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GetMenu()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Men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GetMenuItemCount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GetMenuItemID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DeleteMenu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（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AppendMenu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（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nCmdMs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消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工具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自定义工具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工具条中添加控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4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工具条资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创建工具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工具条上添加控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加入控件响应函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编辑工具条资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33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工具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IDR_MYTOOLBAR 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0" y="3886200"/>
          <a:ext cx="140004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86200"/>
                    <a:ext cx="140004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55480" y="266688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_DRAW_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304812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266688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_DRAW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742840" y="3048120"/>
            <a:ext cx="15238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6120" y="470844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_DRAW_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523880" y="4190760"/>
            <a:ext cx="1371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7440" y="472428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_COMBO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200400" y="4114440"/>
            <a:ext cx="8380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2209680"/>
            <a:ext cx="22860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具条含四个工具按扭，其中前两个与菜单“画图”的前两个菜单项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相同，第三个按扭用于画直线，第四个按扭用来显示组合框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生成程序框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MenuTes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Menu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择单文档界面应用程序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ingle documen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创建工具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365400" indent="-365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在类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中定义工具条数据成员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ToolBar  m_wndMyToolB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在类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OnCreat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函数中加入以下代码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1600200"/>
            <a:ext cx="891540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!m_wndMyToolBar.CreateEx(this, TBSTYLE_FLAT, WS_CHILD | WS_VISIBLE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BRS_TO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| CBRS_GRIPPER | CBRS_TOOLTIPS | CBRS_FLYBY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BRS_SIZE_DYNAMIC) 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!m_wndMyToolBar.LoadToolBar(IDR_MYTOOLBA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ACE0("Failed to create toolba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-1;      // fail to 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wndMyToolBar.EnableDocking(CBRS_ALIGN_AN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nableDocking(CBRS_ALIGN_AN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ockControlBar(&amp;m_wndMyToolBa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创建工具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画线响应函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268360"/>
            <a:ext cx="8381880" cy="2930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DrawLin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MoveTo(20, 2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LineTo(200, 2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工具条上添加控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定义数据成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ComboBox   m_ComboBox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ainFr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nCreat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中加入代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981080"/>
            <a:ext cx="868680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ect 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wndMyToolBar.SetButtonInfo(3,ID_COMBOBOX,TBBS_SEPARATOR,16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wndMyToolBar.GetItemRect(3,&amp;rec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ct.bottom += 1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!m_ComboBox.Create(CBS_DROPDOWNLIST | WS_VISIBLE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S_TABSTOP | CBS_AUTOHSCROLL, rect, &amp;m_wndMyToolBa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_COMBOBOX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Box.AddString("First Item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Box.AddString("Second Item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Box.AddString("Third Item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Box.SetCurSel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加入组合框响应函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位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类的定义处，在其中添加消息响应函数的原形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afx_msg void OnSelchangeCombo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位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消息映射宏的定义处，在其中添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boBo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控件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_CBNSELCHANG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消息的映射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ON_CBN_SELCHANGE(ID_COMBOBOX,OnSelchangeComb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加入组合框响应函数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添加消息映射函数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828800"/>
            <a:ext cx="815328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ainFrame::OnSelchangeComb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m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CurSe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urSel = m_ComboBox.GetCurSe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您选择了第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har No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toa(CurSel,No,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 += N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 += "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!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essageBox(mess,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消息框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,MB_OK | MB_ICONINFORMATION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ToolBa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CreateEx(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SetButtonInfo 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GetItemRect 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ComboBox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Create 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AddString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SetCurSel </a:t>
            </a:r>
            <a:r>
              <a:rPr b="0" lang="zh-CN" sz="2800" spc="-1" strike="noStrike">
                <a:solidFill>
                  <a:srgbClr val="00cc00"/>
                </a:solidFill>
                <a:latin typeface="Times New Roman"/>
              </a:rPr>
              <a:t>（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手工添加消息响应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状态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6248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状态信息行显示信息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状态指示器 显示键盘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7772400" y="609588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4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文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，找到状态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数组的定义处添加代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创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r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键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键状态指示器的字符串资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状态条添加标识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函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MainFrame::OnCreat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函数中，添加状态条的设置代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控制键状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鼠标在视中的位置坐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数组中添加新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219320"/>
            <a:ext cx="800100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static UINT indicators[]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D_SEPARATOR,             // status line indic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D_SEPARATOR, 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坐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D_SEPARATOR,      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坐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D_INDICATOR_CTRL,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Ctrl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键的状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ID_INDICATOR_SHIFT,      //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显示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Shift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键的状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D_INDICATOR_CAP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D_INDICATOR_NU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D_INDICATOR_SCR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创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tr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键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键状态指示器的字符串资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7680" y="1163520"/>
            <a:ext cx="80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21932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orkspa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窗口中双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source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标签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ing Ta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打开字符串资源编辑器。选中一个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INDICAT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开头的字符串资源，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，插入两个新的字符串资源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_INDICATOR_CTRL                  Ct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_INDICATOR_SHIFT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Shif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3581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状态条添加标识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43434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菜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ource Symbol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项，打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ource Symbo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单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扭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输入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IDC_STATUSB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默任值，单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编辑资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菜单资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画图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p-u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ption                       ID                                  Prom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矩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&amp;R)\tCtrl+R      ID_DRAW_RECT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视中画矩形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椭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&amp;C)\tAlt+C       ID_DRAW_CIRCLE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视中画椭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快捷键资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Modifier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e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RECT     Ctrl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DRAW_CIRCL    Alt        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函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MainFrame::OnCreat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）函数中，添加状态条的设置代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7680" y="1163520"/>
            <a:ext cx="80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981080"/>
            <a:ext cx="8305560" cy="3671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!m_wndStatusBar.Create(this) 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!m_wndStatusBar.SetIndicators(indicato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izeof(indicators)/sizeof(UINT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ACE0("Failed to create status bar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-1;      // fail to cr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wndStatusBar.SetPaneInfo(1,IDC_STATUSBAR,SBPS_POPOUT,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wndStatusBar.SetPaneInfo(2,IDC_STATUSBAR,SBPS_POPOUT,5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控制键状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7680" y="1163520"/>
            <a:ext cx="80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1360" y="106668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的类定义内加入消息响应函数的原形，并将成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wndStatusB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改成公用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905120"/>
            <a:ext cx="670572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atusBar  m_wndStatusB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_msg void OnUpdateKeyCtrl(CCmdUI *pCmdU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_msg void OnUpdateKeyShift(CCmdUI *pCmdU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8920" y="4343400"/>
            <a:ext cx="62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消息映射宏的定义处添加两消息映射宏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5168880"/>
            <a:ext cx="7315200" cy="10782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ON_UPDATE_COMMAND_UI(ID_INDICATOR_CTRL,OnUpdateKeyCt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ON_UPDATE_COMMAND_UI(ID_INDICATOR_SHIFT,OnUpdateKeyShi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控制键状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7680" y="1163520"/>
            <a:ext cx="80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360" y="1066680"/>
            <a:ext cx="83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添加消息映射函数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905120"/>
            <a:ext cx="6705720" cy="3300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ainFrame::OnUpdateKeyCtrl(CCmdUI *pCmdU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mdUI-&gt;Enable(::GetKeyState(VK_CONTROL)&lt;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ainFrame::OnUpdateKeyShift(CCmdUI *pCmdU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mdUI-&gt;Enable(::GetKeyState(VK_SHIFT)&lt;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鼠标在视中的位置坐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7680" y="1163520"/>
            <a:ext cx="809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1360" y="1066680"/>
            <a:ext cx="83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添加鼠标移动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1905120"/>
            <a:ext cx="8153280" cy="40417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MouseMove(UINT nFlags, CPoint poi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har PositionString[2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MainFrame *MainFrame=(CMainFrame *) AfxGetMainW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sprintf(PositionString,"X:%d",point.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ainFrame-&gt;m_wndStatusBar.SetPaneText(1,PositionStri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sprintf(PositionString,"y:%d",point.y);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ainFrame-&gt;m_wndStatusBar.SetPaneText(2,PositionStrin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View::OnMouseMove(nFlags, po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StatusBa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SetPaneInfo(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SetIndicators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SetPaneText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GetKeyState(VK_SHIFT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7537320" y="6400800"/>
            <a:ext cx="107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第4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加入菜单消息处理函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Objects IDs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ID_DRAW_RECT      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ID_DRAW_ CIRCLE 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800160"/>
            <a:ext cx="411480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DrawRec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Rectangle(50,50,200,150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3809880"/>
            <a:ext cx="388620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DrawCircl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Ellipse(250,50,400,150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菜单命令的更新控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画图 菜单中再添加两个菜单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                 ID                                Prom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允许画矩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DRAW_ENABLE     -------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禁止画矩形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_DRAW_DISABLE    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视类中添加一个记录当前“矩形”菜单项状态的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OL   m_En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构造函数中初始化数据成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Enab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 Enable =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菜单命令的更新控制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 菜单响应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Objects IDs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D_DRAW_ENABLE     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D_DRAW_ DISABLE   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D_DRAW_RECT            UPDATE_COMMAND_U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D_DRAW_ENABLE      UPDATE_COMMAND_U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MenuTestVie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D_DRAW_ DISABLE    UPDATE_COMMAND_U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800600"/>
            <a:ext cx="8610480" cy="14486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UpdateDrawRect(CCmdUI* pCmdU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mdUI-&gt;Enable(m_Enabl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菜单命令的更新控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838080"/>
            <a:ext cx="457200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DrawDisabl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Enable = FALSE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838080"/>
            <a:ext cx="396252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void CMenuTestView::OnDrawEnable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m_Enable = TRUE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819520"/>
            <a:ext cx="868680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UpdateDrawEnable(CCmdUI* pCmdU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mdUI-&gt;SetCheck(m_Enable ? 1: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800600"/>
            <a:ext cx="8686800" cy="14486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enuTestView::OnUpdateDrawDisable(CCmdUI* pCmdUI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mdUI-&gt;SetCheck(m_Enable ? 0: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4:42Z</dcterms:modified>
  <cp:revision>92</cp:revision>
  <dc:subject/>
  <dc:title>第四章   菜单、快捷键和控制条 </dc:title>
</cp:coreProperties>
</file>